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194-5533-4742-B057-7A7B877A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DD3-CCF8-4C15-8D62-4FB8E0BD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F75-EDDA-4157-B7E8-4CE2EA38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E08-990C-449C-BFBC-7416D97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98F1-9655-4E48-96BC-B0782C5C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F768-9A47-4103-9A88-9C3991C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3CD-E488-4C59-BE6F-B0FD9B50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110-E478-46B4-A310-A82F832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8C3F-91E4-4C55-A1CB-6CC26728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4174-7D13-4F24-9D2F-142645F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CC4-202F-449F-AA48-6ADA5D3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650-9E80-4D81-8BF7-CDFB3E40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C043-A187-4B40-9BE0-4293106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2E40-BB8A-4205-B8C3-D050621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ED3-27F6-49BA-A604-69463FF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022-0F64-4B89-96B7-6E148573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E8C5-8442-4026-B693-1A155BFD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688-49A2-4E4C-8F43-1C0F523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739-2B54-476C-87F1-9508FEE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264-B1D4-4A28-A0ED-4FEF6708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9DF-216A-44D4-84EF-8853671D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D95-343B-491E-BDB0-D208DFD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91A-A3CD-46C4-BB2A-7ABC504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257-90D6-4AF0-BDE9-BDD9B34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9FFB-DB39-4B03-B943-7E4CAB193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69B-672F-469A-9210-83EFC230084C}" type="slidenum"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6e02"/>
                </a:solidFill>
                <a:latin typeface="Arial Black"/>
              </a:rPr>
              <a:t>World War Two</a:t>
            </a:r>
            <a:endParaRPr b="0" lang="en-US" sz="48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Basic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lips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W2 in HD, start of war (3:50-12:50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W2 in HD, Holocaust (11:40-19:30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and of Brothers, Liberation clip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Start of the War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0663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9-1-1939: Germany invaded Poland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litzkrieg = lightning war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ow countries &amp; France fall by June 1940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apan has taken over Manchuria moving to knock-out U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attle of Britain: aerial defense of England by RAF keeps Britain aliv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he Blitz destroys much of London . . .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ermans are eventually driven back across N. Afrika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0" name="Picture 6" descr="spitfire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Turning Points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lingrad: USSR defeats Nazis in a 9 month horror (could have been the end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-day landings: Beaches of Normandy are invaded by Allied force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eginning of the last final push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sland hopping: Guam, Philippines, Iwo Jima, Guadalcana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3" name="Picture 6" descr="aa_marshall_dday_3_e"/>
          <p:cNvPicPr/>
          <p:nvPr/>
        </p:nvPicPr>
        <p:blipFill>
          <a:blip r:embed="rId1"/>
          <a:stretch/>
        </p:blipFill>
        <p:spPr>
          <a:xfrm>
            <a:off x="5715000" y="4102200"/>
            <a:ext cx="3429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oncluding the War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itler kills himself as Soviets take the city of Berlin (Eisenhower let them take it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-bombs and Soviet threats knock Japan out of the wa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SSR is clearly a 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reat and is not abl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o be trusted 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(Cold War begins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6" name="Picture 6" descr="P-ABombSfter10seconds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1674"/>
          <p:cNvPicPr/>
          <p:nvPr/>
        </p:nvPicPr>
        <p:blipFill>
          <a:blip r:embed="rId2"/>
          <a:stretch/>
        </p:blipFill>
        <p:spPr>
          <a:xfrm>
            <a:off x="5029200" y="342900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rds.yahoo.com/_ylt=A9iby6L0imNGdBEBbkyjzbkF/SIG=12904jru3/EXP=1181015156/**http%3A/207.150.180.135/images/en/0/03/NatoAndPact.png"/>
          <p:cNvPicPr/>
          <p:nvPr/>
        </p:nvPicPr>
        <p:blipFill>
          <a:blip r:embed="rId1"/>
          <a:stretch/>
        </p:blipFill>
        <p:spPr>
          <a:xfrm>
            <a:off x="1752480" y="2743200"/>
            <a:ext cx="58676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2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Impact of the Cold War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olarized War: America v. USS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oth create alliances NATO v. Warsaw Pact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ntainment: stop the spread of communism throughout the world (Truman Doctrine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omino Theory: Once one nation falls to communism, they all will!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ntainment in action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Marshall Plan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Korea, Vietnam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21" name="Picture 2" descr="http://rds.yahoo.com/_ylt=A9iby4TTimNGB3MA30WjzbkF/SIG=12m6nrukc/EXP=1181015123/**http%3A/images.salon.com/news/feature/2001/04/03/cold_war/story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rds.yahoo.com/_ylt=A9iby4CCi2NGCgQAkECjzbkF/SIG=12k2s727n/EXP=1181015298/**http%3A/www.pacamera.com/memberGalleries/shpall/domino_theory.jpg"/>
          <p:cNvPicPr/>
          <p:nvPr/>
        </p:nvPicPr>
        <p:blipFill>
          <a:blip r:embed="rId3"/>
          <a:stretch/>
        </p:blipFill>
        <p:spPr>
          <a:xfrm>
            <a:off x="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Agree/Disagree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government should spend money during times of depression to help the economy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interests of the majority are more important than individual right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Religions and unions make people less American and less trustworthy to the governmen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Presentations: </a:t>
            </a:r>
            <a:br>
              <a:rPr sz="4000"/>
            </a:br>
            <a:r>
              <a:rPr b="0" lang="en-US" sz="3200" spc="-1" strike="noStrike">
                <a:solidFill>
                  <a:srgbClr val="fe6e02"/>
                </a:solidFill>
                <a:latin typeface="Arial Black"/>
              </a:rPr>
              <a:t>4-7 notes, 1 image &amp; event for Timeline</a:t>
            </a:r>
            <a:endParaRPr b="0" lang="en-US" sz="32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ermany sparks . . . – Battle of Britain (925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ritain – US Aids Allies (927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arl Harbor – Allies Strike Back (931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lies Strike back – end (934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locaus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ide Turns (941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Victory in Europe (943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Victory in the Pacific (945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What do you know?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re are four people, four battles and two weapon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ith a partner, sort these names into there correct categorie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Rommel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Midway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Spitfir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wo Jim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Patto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Normandy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Yamamoto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Panze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De Gau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USSR – Soviet Union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lin (a communist) blames previous government and capitalist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rces people to work on collectives (farms) &amp; 5 Year Plans (increase factory output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te ownership, revolutionary ideal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bout 13 million soviets die under his rul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92" name="Picture 7" descr="20020726_ussr_flag"/>
          <p:cNvPicPr/>
          <p:nvPr/>
        </p:nvPicPr>
        <p:blipFill>
          <a:blip r:embed="rId1"/>
          <a:stretch/>
        </p:blipFill>
        <p:spPr>
          <a:xfrm>
            <a:off x="3352680" y="5095800"/>
            <a:ext cx="235116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Lenin_and_Stalin_1922"/>
          <p:cNvPicPr/>
          <p:nvPr/>
        </p:nvPicPr>
        <p:blipFill>
          <a:blip r:embed="rId2"/>
          <a:stretch/>
        </p:blipFill>
        <p:spPr>
          <a:xfrm>
            <a:off x="4343400" y="1447920"/>
            <a:ext cx="4800600" cy="541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Joseph Stalin"/>
          <p:cNvPicPr/>
          <p:nvPr/>
        </p:nvPicPr>
        <p:blipFill>
          <a:blip r:embed="rId3"/>
          <a:stretch/>
        </p:blipFill>
        <p:spPr>
          <a:xfrm>
            <a:off x="0" y="1447920"/>
            <a:ext cx="4343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Italy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enito Mussolini (</a:t>
            </a:r>
            <a:r>
              <a:rPr b="0" i="1" lang="en-US" sz="3200" spc="-1" strike="noStrike">
                <a:solidFill>
                  <a:srgbClr val="ff9933"/>
                </a:solidFill>
                <a:latin typeface="Arial"/>
              </a:rPr>
              <a:t>Il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uce) leads fascists to power (state above individual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rivate property &amp; rights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rong government rules</a:t>
            </a:r>
            <a:endParaRPr b="0" lang="en-US" sz="2400" spc="-1" strike="noStrike">
              <a:solidFill>
                <a:srgbClr val="ff9933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ght against: unemployment, inflation &amp; strikes (blames the poor and communists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oves strength by attacking the weak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97" name="Picture 5" descr="mussolini1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asces"/>
          <p:cNvPicPr/>
          <p:nvPr/>
        </p:nvPicPr>
        <p:blipFill>
          <a:blip r:embed="rId2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Germany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itler leads National Socialist German Workers party or Nazi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ants to unite all German peoples/Great again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reate lebensraum “living space”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reate a pure Aryan race/Why else would he oppose the Jewish people?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1933 – Chancellor Hitle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rt of the Third Reich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01" name="Picture 5" descr="hitler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wcdnazi031103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eurasia-map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rash Course – WW2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ick three concepts from the list and be ready to explain them after the video: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rting date?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litzkrieg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Blitz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nger Plan/Lebensraum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lingrad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anadian involvemen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mo Homini Lupus (destruction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enzi's</dc:creator>
  <dc:description/>
  <dc:language>en-US</dc:language>
  <cp:lastModifiedBy>Kuenzi, Robert</cp:lastModifiedBy>
  <dcterms:modified xsi:type="dcterms:W3CDTF">2014-05-13T19:31:47Z</dcterms:modified>
  <cp:revision>24</cp:revision>
  <dc:subject/>
  <dc:title>World War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31033</vt:lpwstr>
  </property>
</Properties>
</file>